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C9928-F958-4B7C-A843-7CE31623B30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31E0C-8FAE-4368-8CD9-C4E41795115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700AF-5C72-46B9-BF4E-1CF594D957B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68D65-961A-45E4-B1EA-4392062ACD5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D4778-72F2-4AE3-90C3-85BFF54AB35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3F303-3DB0-4BAF-9235-637DCB7A660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2C9A4-6184-4F6D-B7F8-8CEF8EF08C1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52B7E-2FA2-44D9-A7D0-4730EDCFC94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09C10-21F1-4C1B-AD0D-94611DD29EF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81516-BB0B-45E8-AC64-4E81341A8A6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A95DC-F3C2-4CA2-8FA3-59E7E93161E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F47B8-0667-4D77-89E0-5CD912295EA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0FC22-2A73-4E6E-B88C-C188D241160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1CABF-A445-4CAF-B80D-98B14BCDE75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64C64-D378-421F-814E-5B8601DAE9A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22453-2BD4-4638-ABF5-6D200E24F59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5721-E003-4B73-9509-4EF1DDC71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09C0-704C-4474-8B2F-3E53314EE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65B0-EB25-4713-AFF4-2456F4561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407E-60F5-4E9B-BFB3-39D5A8AD5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9151-CAD1-495C-83B2-04520CFA5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D74F-C595-4C0D-8FAE-2D9BB9989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1989-EB97-4407-83F6-D356DB1FE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6F8A-0BE9-4531-B0AD-E06ACAED3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BD57-967E-4CC5-B937-DD0E4B170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C1B5-2420-4084-BBCA-80B0D838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2095-3871-4752-AA67-9606FC2A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B067-1141-4FCD-8064-09915287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40901-BE85-4B71-A30C-BAC33A1F59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P:\DEPT\WM\_SHARED\2011 Adviosry Resources\2011 ADVISORY CD FILES\2. EMPOWER\EMPOWER\1. Outreach Is for Everyone-WM Evangelism Manual\EVANGELISM MANUAL - EDITED\PP Slides\COVER GERAL.jpg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05520" y="1066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Palatino Linotype"/>
              </a:rPr>
              <a:t>ЕВАНГЕЛИЗМ</a:t>
            </a:r>
            <a:r>
              <a:rPr b="1" lang="en-US" sz="36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Palatino Linotype"/>
              </a:rPr>
              <a:t>для </a:t>
            </a:r>
            <a:r>
              <a:rPr b="1" lang="ru-RU" sz="3600" spc="-1" strike="noStrike">
                <a:solidFill>
                  <a:srgbClr val="c00000"/>
                </a:solidFill>
                <a:latin typeface="Palatino Linotype"/>
              </a:rPr>
              <a:t>КАЖДОГ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486040" y="281916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Генеральная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Конферен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Отдел Женского служения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Palatino Linotype"/>
              </a:rPr>
              <a:t>РУКОВОДСТВО ПО ЕВАНГЕЛЬСКОЙ РАБО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Palatino Linotype"/>
              </a:rPr>
              <a:t>Обучающая Программа</a:t>
            </a:r>
            <a:r>
              <a:rPr b="1" i="1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WMLOGO-small"/>
          <p:cNvPicPr/>
          <p:nvPr/>
        </p:nvPicPr>
        <p:blipFill>
          <a:blip r:embed="rId2"/>
          <a:stretch/>
        </p:blipFill>
        <p:spPr>
          <a:xfrm>
            <a:off x="7238880" y="4572000"/>
            <a:ext cx="60984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1828440" y="990720"/>
            <a:ext cx="7086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70c0"/>
                </a:solidFill>
                <a:latin typeface="Calibri"/>
              </a:rPr>
              <a:t>1. </a:t>
            </a: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Необходимость уделять время молитве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 успехе каждой встречи, а также во время встреч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70c0"/>
                </a:solidFill>
                <a:latin typeface="Calibri"/>
              </a:rPr>
              <a:t>2. </a:t>
            </a: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Фокусирование на Библии.</a:t>
            </a:r>
            <a:r>
              <a:rPr b="0" lang="ru-RU" sz="3200" spc="-1" strike="noStrike">
                <a:solidFill>
                  <a:srgbClr val="558ed5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юдям необходимо слышать,          что вы говорите, а не то,                    что интерпретируете (посмотрите, например, на Даниила)                     «то, что говорит Библия» - позвольте Библии объяснять себ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1752120" y="11430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Четко представьте вашей аудитории, </a:t>
            </a:r>
            <a:r>
              <a:rPr b="1" i="1" lang="ru-RU" sz="3000" spc="-1" strike="noStrike">
                <a:solidFill>
                  <a:srgbClr val="0070c0"/>
                </a:solidFill>
                <a:latin typeface="Calibri"/>
              </a:rPr>
              <a:t>что целью вашего семинара является прославление Иисуса Христа.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асскажите о Христ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70c0"/>
                </a:solidFill>
                <a:latin typeface="Calibri"/>
              </a:rPr>
              <a:t>4. </a:t>
            </a:r>
            <a:r>
              <a:rPr b="1" i="1" lang="ru-RU" sz="3000" spc="-1" strike="noStrike">
                <a:solidFill>
                  <a:srgbClr val="0070c0"/>
                </a:solidFill>
                <a:latin typeface="Calibri"/>
              </a:rPr>
              <a:t>Объясните участникам,                что мы изучаем события последних дней не только для того, чтобы понимать, что происходит                   в последние дни, но также,         чтобы подготовиться к ним.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P:\DEPT\WM\_SHARED\2011 Adviosry Resources\Nurture-Empower-Outreach\EMPOWER\EVANGELISM MANUAL - EDITED\PP evangelism\Chapter 08 text2.jpg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9343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Bookman Old Style"/>
              </a:rPr>
              <a:t>КОМАНДА ЕВАНГЕЛИСТОВ</a:t>
            </a:r>
            <a:br>
              <a:rPr sz="4000"/>
            </a:br>
            <a:r>
              <a:rPr b="0" lang="en-US" sz="4000" spc="-1" strike="noStrike">
                <a:solidFill>
                  <a:srgbClr val="0070c0"/>
                </a:solidFill>
                <a:latin typeface="Bookman Old Style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09480" y="3657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Не мудро пытаться проводить евангельский семинар в одиночку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. 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Другим людям также нужно получить опыт и благословения</a:t>
            </a:r>
            <a:r>
              <a:rPr b="0" lang="ru-RU" sz="30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  Мы все обладаем разными духовными дарами. Для успешной программы нужны различные таланты и личностные характеристик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P:\DEPT\WM\_SHARED\2011 Adviosry Resources\Nurture-Empower-Outreach\EMPOWER\EVANGELISM MANUAL - EDITED\PP evangelism\Chapter 08 text2.jpg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9343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Bookman Old Style"/>
              </a:rPr>
              <a:t>МАЛЕНЬКИЕ ПОДСКАЗКИ       ДЛЯ ЧЛЕНОВ КОМАНДЫ</a:t>
            </a:r>
            <a:br>
              <a:rPr sz="4000"/>
            </a:br>
            <a:r>
              <a:rPr b="1" lang="en-US" sz="4000" spc="-1" strike="noStrike">
                <a:solidFill>
                  <a:srgbClr val="0070c0"/>
                </a:solidFill>
                <a:latin typeface="Bookman Old Style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34286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Помогите членам команды понять,               что их попросили помочь регистрировать гостей, подготовить семинар                          или музыкальное выступление,                       но вся эта работа второстепенна.          </a:t>
            </a:r>
            <a:r>
              <a:rPr b="1" i="1" lang="ru-RU" sz="3100" spc="-1" strike="noStrike">
                <a:solidFill>
                  <a:srgbClr val="ff0000"/>
                </a:solidFill>
                <a:latin typeface="Calibri"/>
              </a:rPr>
              <a:t>Прежде всего, их попросили установить взаимоотношения  с посетителями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1752480" y="838080"/>
            <a:ext cx="7010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осле того, как вы познакомитесь                  с гостями, вы можете сесть рядом                  с ними во время семинара, запомнить         их имена и звонить им, если                       они пропускают встречу – </a:t>
            </a:r>
            <a:r>
              <a:rPr b="1" i="1" lang="ru-RU" sz="2700" spc="-1" strike="noStrike">
                <a:solidFill>
                  <a:srgbClr val="ff0000"/>
                </a:solidFill>
                <a:latin typeface="Calibri"/>
              </a:rPr>
              <a:t>не ругайте гостей за пропуски, но проявите                к ним интерес и покажите, что вы       по-настоящему заботитесь о них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азговаривая с посетителями,                       не забегайте вперед и </a:t>
            </a:r>
            <a:r>
              <a:rPr b="1" i="1" lang="ru-RU" sz="2700" spc="-1" strike="noStrike">
                <a:solidFill>
                  <a:srgbClr val="ff0000"/>
                </a:solidFill>
                <a:latin typeface="Calibri"/>
              </a:rPr>
              <a:t>не рассказывайте им о следующих темах.</a:t>
            </a:r>
            <a:r>
              <a:rPr b="1" i="1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1905120" y="609480"/>
            <a:ext cx="6705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Окажите поддержку гостям,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гда они столкнуться с трудностями                 в изучении истины, новой для них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жде всего, </a:t>
            </a: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вы принимаете участие в семинаре, чтобы подружить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Когда ваши посетители придут          в церковь первый раз в субботу,     если возможно, пригласите                 их на обед к себе домой.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звольте    им увидеть, как вы испытываете радость от соблюдения суббо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P:\DEPT\WM\_SHARED\2011 Adviosry Resources\Nurture-Empower-Outreach\EMPOWER\EVANGELISM MANUAL - EDITED\PP evangelism\Chapter 08 text2.jpg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9343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Bookman Old Style"/>
              </a:rPr>
              <a:t>РУКОВОДЯЩИЕ ПРИНЦИПЫ    ДЛЯ РУКОВОДИТЕЛЕЙ СЕМИНАР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37339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иже приведены руководящие принципы проведения евангельского семинара, разработанные человеком, который присоединился к церкви благодаря семинару по книге Откровение, и впоследствии проводившего семинары по книге Откровение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1752480" y="838080"/>
            <a:ext cx="70106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Каждый вечер используйте проектор и экран или другую видеотехнику,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такую как компьютер, видеомагнитофон, большой телевизор, а также классную доску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первый вечер расскажите вашим посетителям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что все </a:t>
            </a: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раздаточные материалы бесплатны</a:t>
            </a:r>
            <a:r>
              <a:rPr b="1" lang="en-US" sz="3000" spc="-1" strike="noStrike">
                <a:solidFill>
                  <a:srgbClr val="0070c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58ed5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Убедитесь, что зал </a:t>
            </a: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будет открыт        для вас за час до начала первой встреч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1828440" y="9144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вы проводите семинар в малой группе или встречаетесь на дому,              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то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вы можете сесть вокруг стола             или по кругу в комнате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 прихода  гостей расставьте стол и стулья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последующих встречах вы можете раскладывать на столе </a:t>
            </a:r>
            <a:r>
              <a:rPr b="1" i="1" lang="ru-RU" sz="2800" spc="-1" strike="noStrike">
                <a:solidFill>
                  <a:srgbClr val="0070c0"/>
                </a:solidFill>
                <a:latin typeface="Calibri"/>
              </a:rPr>
              <a:t>только следующий урок.</a:t>
            </a:r>
            <a:r>
              <a:rPr b="0" lang="ru-RU" sz="2800" spc="-1" strike="noStrike">
                <a:solidFill>
                  <a:srgbClr val="558ed5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1752480" y="13716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ли вы ожидаете большое количество посетителей,                   то пригласите помощников, назначенных в вашей церкви.        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На первую встречу вам необходимо пригласить двух помощников на каждые 10-15 посетителе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P:\DEPT\WM\_SHARED\2011 Adviosry Resources\Nurture-Empower-Outreach\EMPOWER\EVANGELISM MANUAL - EDITED\PP evangelism\Chapter 08 cover.jpg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228600" y="581040"/>
            <a:ext cx="8686800" cy="7034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2f2f2"/>
                </a:solidFill>
                <a:latin typeface="Trajan Pro"/>
              </a:rPr>
              <a:t>ЕВАНГЕЛИЗМ </a:t>
            </a:r>
            <a:r>
              <a:rPr b="1" lang="ru-RU" sz="4000" spc="-1" strike="noStrike">
                <a:solidFill>
                  <a:srgbClr val="c00000"/>
                </a:solidFill>
                <a:latin typeface="Trajan Pro"/>
              </a:rPr>
              <a:t>ДЛЯ КАЖД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4762440" y="1959120"/>
            <a:ext cx="4381560" cy="26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  <a:ea typeface="Calibri"/>
              </a:rPr>
              <a:t>Глава </a:t>
            </a:r>
            <a:r>
              <a:rPr b="1" lang="en-US" sz="4400" spc="-1" strike="noStrike">
                <a:solidFill>
                  <a:srgbClr val="c00000"/>
                </a:solidFill>
                <a:latin typeface="Calibri"/>
                <a:ea typeface="Calibri"/>
              </a:rPr>
              <a:t>8 </a:t>
            </a:r>
            <a:br>
              <a:rPr sz="4400"/>
            </a:br>
            <a:r>
              <a:rPr b="1" lang="ru-RU" sz="4400" spc="-1" strike="noStrike">
                <a:solidFill>
                  <a:srgbClr val="002060"/>
                </a:solidFill>
                <a:latin typeface="Bookman Old Style"/>
                <a:ea typeface="Calibri"/>
              </a:rPr>
              <a:t>Семинар </a:t>
            </a:r>
            <a:r>
              <a:rPr b="1" lang="en-US" sz="4400" spc="-1" strike="noStrike">
                <a:solidFill>
                  <a:srgbClr val="002060"/>
                </a:solidFill>
                <a:latin typeface="Bookman Old Style"/>
                <a:ea typeface="Calibri"/>
              </a:rPr>
              <a:t>  </a:t>
            </a:r>
            <a:r>
              <a:rPr b="1" lang="ru-RU" sz="4400" spc="-1" strike="noStrike">
                <a:solidFill>
                  <a:srgbClr val="002060"/>
                </a:solidFill>
                <a:latin typeface="Bookman Old Style"/>
                <a:ea typeface="Calibri"/>
              </a:rPr>
              <a:t>как вид евангельской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5257800" y="5791320"/>
            <a:ext cx="4038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Bookman Old Style"/>
                <a:ea typeface="Calibri"/>
              </a:rPr>
              <a:t>Генеральная конферен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Bookman Old Style"/>
                <a:ea typeface="Calibri"/>
              </a:rPr>
              <a:t>Отдел Женского слу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WMLOGO-small"/>
          <p:cNvPicPr/>
          <p:nvPr/>
        </p:nvPicPr>
        <p:blipFill>
          <a:blip r:embed="rId2"/>
          <a:stretch/>
        </p:blipFill>
        <p:spPr>
          <a:xfrm>
            <a:off x="6877080" y="5410080"/>
            <a:ext cx="60948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1828440" y="837720"/>
            <a:ext cx="70102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ручите одному помощнику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написать  на бейджиках имена ваших посетителей.</a:t>
            </a:r>
            <a:r>
              <a:rPr b="0" lang="ru-RU" sz="2800" spc="-1" strike="noStrike">
                <a:solidFill>
                  <a:srgbClr val="558ed5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ждый вечер после программы предлагайте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ответить на вопросы вопросника и оставить конверты                с пожертвованиями на стол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Все записи</a:t>
            </a:r>
            <a:r>
              <a:rPr b="0" lang="ru-RU" sz="28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елайте своевременно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По прошествии нескольких встреч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вы можете открыть книжную лавку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1600200" y="685440"/>
            <a:ext cx="7238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о время первых встреч побуждайте людей </a:t>
            </a:r>
            <a:r>
              <a:rPr b="1" lang="ru-RU" sz="2700" spc="-1" strike="noStrike">
                <a:solidFill>
                  <a:srgbClr val="0070c0"/>
                </a:solidFill>
                <a:latin typeface="Calibri"/>
              </a:rPr>
              <a:t>приглашать своих друзей.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омните о том, что люди изучают урок         до прихода на вашу встречу, поэтому вам необходимо хорошо рассмотреть его            во время встреч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Если вы запланировали серию евангельских встреч и не закончили уроки, расскажите участникам об этом на первой встрече            </a:t>
            </a:r>
            <a:r>
              <a:rPr b="1" lang="ru-RU" sz="2700" spc="-1" strike="noStrike">
                <a:solidFill>
                  <a:srgbClr val="0070c0"/>
                </a:solidFill>
                <a:latin typeface="Calibri"/>
              </a:rPr>
              <a:t>и регулярно напоминайте о том, что ваши встречи лишь прелюдия к более детальному изучению, которое будет предложено позж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P:\DEPT\WM\_SHARED\2011 Adviosry Resources\Nurture-Empower-Outreach\EMPOWER\EVANGELISM MANUAL - EDITED\PP evangelism\Chapter 08 text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609480" y="29718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b0f0"/>
                </a:solidFill>
                <a:latin typeface="Calibri"/>
              </a:rPr>
              <a:t>Визуализация – ключ к успеху. </a:t>
            </a:r>
            <a:r>
              <a:rPr b="1" lang="ru-RU" sz="3300" spc="-1" strike="noStrike">
                <a:solidFill>
                  <a:srgbClr val="f2f2f2"/>
                </a:solidFill>
                <a:latin typeface="Calibri"/>
              </a:rPr>
              <a:t>По мере того, как ваши дружеские отношения будут укрепляться и у людей будет возможность открываться, вы можете поделиться евангельской вестью в более полном объеме. </a:t>
            </a:r>
            <a:r>
              <a:rPr b="1" i="1" lang="ru-RU" sz="3300" spc="-1" strike="noStrike">
                <a:solidFill>
                  <a:srgbClr val="f2f2f2"/>
                </a:solidFill>
                <a:latin typeface="Calibri"/>
              </a:rPr>
              <a:t>(Для более подробного описания читайте главу 12</a:t>
            </a:r>
            <a:r>
              <a:rPr b="1" lang="ru-RU" sz="3300" spc="-1" strike="noStrike">
                <a:solidFill>
                  <a:srgbClr val="f2f2f2"/>
                </a:solidFill>
                <a:latin typeface="Calibri"/>
              </a:rPr>
              <a:t> </a:t>
            </a:r>
            <a:r>
              <a:rPr b="1" i="1" lang="ru-RU" sz="3300" spc="-1" strike="noStrike">
                <a:solidFill>
                  <a:srgbClr val="f2f2f2"/>
                </a:solidFill>
                <a:latin typeface="Calibri"/>
              </a:rPr>
              <a:t>«Посещения   и принятие решений»).</a:t>
            </a:r>
            <a:r>
              <a:rPr b="0" lang="ru-RU" sz="3300" spc="-1" strike="noStrike">
                <a:solidFill>
                  <a:srgbClr val="f2f2f2"/>
                </a:solidFill>
                <a:latin typeface="Calibri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P:\DEPT\WM\_SHARED\2011 Adviosry Resources\Nurture-Empower-Outreach\EMPOWER\EVANGELISM MANUAL - EDITED\PP evangelism\Chapter 08 text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380520" y="22860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«Каждая община должна быть школой подготовки для христиан.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ждого члена церкви следует обучать проведению библейских занятий с другими людьми, проведению уроков субботней школы, а также как наилучшим образом помочь бедным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 позаботиться о больных, как работать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 необращенными. Необходимо организовывать школы здорового образа жизни, кулинарные школы, а также занятия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 различным направлениям христианской благотворительной деятельност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P:\DEPT\WM\_SHARED\2011 Adviosry Resources\Nurture-Empower-Outreach\EMPOWER\EVANGELISM MANUAL - EDITED\PP evangelism\Chapter 08 text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380880" y="25142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еобходимо, чтобы теоретическое обучение тесно переплеталось с реальной практической деятельностью под руководством опытных наставников. Пусть учителя покажут пример работы с людьми, а другие, присоединившись     к ним, учатся на их примере. 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Один практический пример гораздо более ценен, чем многие теоретические предписания»,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Служение исцеления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, стр. 148,149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P:\DEPT\WM\_SHARED\2011 Adviosry Resources\Nurture-Empower-Outreach\EMPOWER\EVANGELISM MANUAL - EDITED\PP evangelism\Chapter 08 text2.jpg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934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457200" y="26665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еминар как вид евангельской работы представляет собой скорее методичное изложение темы, чем изучение Библии        или изучение в малых группах, но вместе           с тем, он не настолько строг по своей форме, как евангельская программа. 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Данный семинар предусматривает приглашение к диалогу       и участию, которые не может предложить обычная евангельская программ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800" spc="-1" strike="noStrike">
                <a:solidFill>
                  <a:srgbClr val="0070c0"/>
                </a:solidFill>
                <a:latin typeface="Bookman Old Style"/>
              </a:rPr>
              <a:t>КАК ВАМ ПОДГОТОВИТЬ СЕМИНАР</a:t>
            </a:r>
            <a:r>
              <a:rPr b="1" lang="en-US" sz="4800" spc="-1" strike="noStrike">
                <a:solidFill>
                  <a:srgbClr val="0070c0"/>
                </a:solidFill>
                <a:latin typeface="Bookman Old Style"/>
              </a:rPr>
              <a:t>?  </a:t>
            </a:r>
            <a:br>
              <a:rPr sz="4800"/>
            </a:b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752120" y="2362320"/>
            <a:ext cx="7086600" cy="34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В основном подготовка к семинару напоминает подготовку к большой евангельской кампании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дно лишь отличие – человек, который будет представлять тему, будет лектором или преподавателем, а не евангелистом или проповедник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P:\DEPT\WM\_SHARED\2011 Adviosry Resources\Nurture-Empower-Outreach\EMPOWER\EVANGELISM MANUAL - EDITED\PP evangelism\Chapter 08 text2.jpg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9343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457200" y="24379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Совершая евангельскую работу, женщинам очень важно работать вместе.</a:t>
            </a:r>
            <a:r>
              <a:rPr b="0" lang="ru-RU" sz="3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Таким образом, мы сможем поддерживать друг друга                и делиться своими идеями. Мы можем молиться вместе о наших гостях и также друг  о друге, объединяя нашу команду в Господе. 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Когда женщины соглашаются работать вместе во имя благой цели, благодаря Божьему руководству, они могут достичь таких успехов, о которые даже не представлял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P:\DEPT\WM\_SHARED\2011 Adviosry Resources\Nurture-Empower-Outreach\EMPOWER\EVANGELISM MANUAL - EDITED\PP evangelism\Chapter 08 text2.jpg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9343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533520" y="28191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Евангельский семинар – улучшенный вид работы, когда посвященные женщины     из церкви могут стать друзьями тем,       кто его посещает.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учше всего, если каждый вечер они будут приглашать           на семинар своих друзей, членов семьи      и соседе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P:\DEPT\WM\_SHARED\2011 Adviosry Resources\Nurture-Empower-Outreach\EMPOWER\EVANGELISM MANUAL - EDITED\PP evangelism\Chapter 08 text2.jpg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9343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Bookman Old Style"/>
              </a:rPr>
              <a:t>КЛЮЧИ К УСПЕХУ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373356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Ниже предложены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четыре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очень важных ключа для успеха любой евангельской инициативы,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 особенно важные            для проведения семинар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7T01:28:44Z</dcterms:created>
  <dc:creator/>
  <dc:description/>
  <dc:language>en-US</dc:language>
  <cp:lastModifiedBy/>
  <dcterms:modified xsi:type="dcterms:W3CDTF">2011-08-21T07:13:31Z</dcterms:modified>
  <cp:revision>0</cp:revision>
  <dc:subject/>
  <dc:title/>
</cp:coreProperties>
</file>